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B92-3DF8-4859-8AFB-2F53BE15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718-012E-4BFB-9172-7FD8FD53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DDA-3C9F-4DC9-BADD-35283D4E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282-5883-4074-9E82-8B93E300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AAE-873D-42F8-9517-330E7616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295-1296-4709-ADB3-D1DC3682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2E5-7598-4955-8E90-5378EC4C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02D-D6EF-4380-936B-D27A93C5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F97-CE86-494C-9AC2-52D75796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B1B9-6C6B-4E2D-93FC-6F8BA50D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0B5-8E33-4A58-8451-D1E4532A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FB7-87F2-47E3-8363-7153822C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DE39-79E7-4EA2-9D40-9EAE4C9E7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Aniline.sv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novosti.rs/vesti/naslovna/ekonomija/aktuelno.239.html:677942-Otrovom-pozuruju-paradajz-da-zri" TargetMode="External"/><Relationship Id="rId2" Type="http://schemas.openxmlformats.org/officeDocument/2006/relationships/hyperlink" Target="http://www.novosti.rs/vesti/naslovna/ekonomija/aktuelno.239.html:677942-Otrovom-pozuruju-paradajz-da-zri" TargetMode="External"/><Relationship Id="rId3" Type="http://schemas.openxmlformats.org/officeDocument/2006/relationships/hyperlink" Target="http://www.novosti.rs/vesti/naslovna/ekonomija/aktuelno.239.html:677942-Otrovom-pozuruju-paradajz-da-zri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аеста недеља наставе,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09 ТОКСИКОЛОГИЈА – КЛИНИЧКИ, ЕКОЛОШКИ И ЕКСПЕРИМЕНТАЛНИ АСПЕК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Механизам токси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органофосфати и карбамати инхибирају ацетилхолин-естеразу, довод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до накупљања ацетил-холина и пој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е холинерг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е стимул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лин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 сли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имптоми се јављају најкасније за 24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об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о после 8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МЛД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ливација +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крење +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кримација +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фек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и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ронхоре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ној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бог стимулације ганглијских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лија, м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 бити активиран и симпатикус, па се јављају: тахикардија, хипергликемија, леукоцитоза, проду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н QТ-интерв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асцикулација, деполаризациона парали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имптоми могу трајати и пар д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индром одло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ене токси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авља се само код органофосф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ле 24-96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са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од смиривања знакова и симптома акутног тровања јављају с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оксимална слабост екстремитет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лабост флексора врат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рализе кранијалних нерава, па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рализа дис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дл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и</a:t>
            </a: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индром је највероватније последица редистрибуције органофосфата из масног тки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оследиц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ле неколико недеља од акутног тровања органофосфатима м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д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 до сензори-моторне периферне неуропат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злог је инхибиција ензима </a:t>
            </a: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уротокс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 естераза</a:t>
            </a: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рење активности бутирил-холинестеразе у плазми, и ацетилхолинестеразе у еритроцитима, која остаје инхибирана све док се еритроцити не повуку из циркул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ликом узорковања крви, водити р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на да се не користе епрувете са флуоридима, јер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се добити л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о позитивни резулта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Ле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ењ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Деконтаминација: скинути одело, испрати ко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у сапуном и водом; о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ати кос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спирање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елуца + активни угаљ (1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g/k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рименити атропин-сулфат и.в., користе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 стратегију </a:t>
            </a:r>
            <a:r>
              <a:rPr b="0" lang="en-US" sz="2600" spc="-1" strike="noStrike">
                <a:solidFill>
                  <a:srgbClr val="000000"/>
                </a:solidFill>
                <a:latin typeface="MS Reference Sans Serif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дуплирања</a:t>
            </a:r>
            <a:r>
              <a:rPr b="0" lang="en-US" sz="2600" spc="-1" strike="noStrike">
                <a:solidFill>
                  <a:srgbClr val="000000"/>
                </a:solidFill>
                <a:latin typeface="MS Reference Sans Serif"/>
              </a:rPr>
              <a:t>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прво дамо 1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затим на 3-5 минута дуплирамо дозу, све док бронхореја не престане (1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+ 4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+ 8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+ 16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+.....понекад се иде и до 1000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Уместо атропина мо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е се применити гликопиролат, који минимално продире у ЦНС, па не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е изазвати делиријум као атропин. По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етна доза је 1-2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Ле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ењ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алидоксим треба дати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то раније, 2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и.в., током 10-15 минута; затим се даје на сваких 6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иста доза, све док пацијент не буде 24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без симпто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оза за децу: 25-50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g/k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т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им слу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јевима даје се у инфузији, 250-500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g/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све до побољ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Диазепам треба дати болесницима са конвулзија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алидоксим је нуклеофил, који преузима фосфорну групу са ацетилхолин-естеразе, и тако је ослоба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Даје се и код тровања карбамати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ајефикаснији је у близини никотинских рецептора, тако да отклања парализу ве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за 10-40 минута од приме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алидоксим се не сме брзо давати и.в., јер мо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е да пролазно додатно блокира холинестеразу, и тако погор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а стање болесн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Тровање храном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праћено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неуроло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ким симптом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Тровања без парал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ЦИГВАТЕРА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ровање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еома је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сто; токсин отвара канале за Na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овање настаје после ингест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мес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вел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a из топлих мора (до 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географске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рине). У месу великих р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а се акум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ирa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цигватокс</a:t>
            </a:r>
            <a:r>
              <a:rPr b="0" lang="sr-CS" sz="2400" spc="-1" strike="noStrike">
                <a:solidFill>
                  <a:srgbClr val="c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који jе полиетeр, термос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билaн и л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с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б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оксин стварaју фотoсин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e динофлаг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тe (посебнo Gambierdiscus toxicus); њих једу малe р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e, које су плeн в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Токсин не  ут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 на саме риб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рганолепт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e осoбине рибљег меса нису измењeнe цигватокс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oм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имптоми и знаци цигватера тров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имптоми и знаци п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њу 2-6 сати после ун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ња контаминиране хране, најкасније после 24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нојењ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ол у трб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са гр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вимa, повр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њем и воденастим проливo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Главобoљa, бол у зуб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арестeзијe и дисестез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ј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Губитак ос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јa на језику и уснам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Јак метални ук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брнут ос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ј топлo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 и хладн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олoви у м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а и зглобoвима, атaксиј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радик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д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јa и х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тенз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њ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имена активног угљ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.в. манитол мо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 да смaњи неуролo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e манифестац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Тровање бревeтоксинo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Бреветокси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тварaју динофлагелате Ptychodiscus brevis, које сe акумулирај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 телу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љ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овање настаје ако 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јед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љке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ком месеци без слова </a:t>
            </a:r>
            <a:r>
              <a:rPr b="0" lang="sr-CS" sz="2800" spc="-1" strike="noStrike">
                <a:solidFill>
                  <a:srgbClr val="000000"/>
                </a:solidFill>
                <a:latin typeface="MS Reference Sans Serif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sr-CS" sz="2800" spc="-1" strike="noStrike">
                <a:solidFill>
                  <a:srgbClr val="000000"/>
                </a:solidFill>
                <a:latin typeface="MS Reference Sans Serif"/>
              </a:rPr>
              <a:t>″у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зив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од маја до августа) на северној хемисфери; тада се динофлагелате намн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и стварају тзв. </a:t>
            </a: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рвену плиму</a:t>
            </a: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Једињења аз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Анилин – саставни део штампарских мастила и бо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Диметиланилин, нитроанилин, толуидин и нитробензени се користе у синтези других једињ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Летална доза анилина је 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Описана су смртоносна тровања беба анилином са пелена штампаних анилинском бој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http://upload.wikimedia.org/wikipedia/commons/thumb/f/fe/Aniline.svg/100px-Anilin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304920"/>
            <a:ext cx="9525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Тровање бреветоксин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9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реветоксин је сл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н цигватокси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9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твара канале за натријум на телу неур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9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наци и симптоми су веома сл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и дејству цигватокс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9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кубација траје од 15 мин. до 18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са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об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о 3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са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9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мптоми трају око 17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са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Тровање хистамин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лике рибе из топлих мора, као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о су туна, макерел и др., које имају доста тамног меса, садр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у својим протеинима пуно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хисти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ко се после улова не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вају на ниској температури, бактерије се разм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и претварају хистидин у хистам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глед рибе се не м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Тровање хистамин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ле неколико минута или сати од ун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ња рибљег меса јављају с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7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рестезије на лицу и ус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7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т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о гут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7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7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рвенило лица и вр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њe: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антихистамини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Тровања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праћен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парализ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акситокс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кситоксин блокира канале за Na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кситоксин стварају динофлагелате Protogonyaulax catanella i P. tamaren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овање настаје после уноса шкољки у којима се токсин акумулира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акситокс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мптоми настају 30 минута од ингестије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љ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арестезија и неосетљивост екстремит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ртоглав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лабост и парализа м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агија, дисфонија, слепи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арализе могу трајати недељ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настати смрт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парализе дис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Тетродотокс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лази се у рибама Tetraodontiformes ре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а тих риба има округао, лоптаст обл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се н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 и код октопода са плавим прстеном, у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ајима потков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стих краба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мптоми и знаци се јављају после 30 минута од ингест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мптоми и знаци су исти као код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кситоксина, јер и тетродотоксин блокира канале за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Тровање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праћено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амнезиј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стаје када се једу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љке у време </a:t>
            </a: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рвене плиме</a:t>
            </a:r>
            <a:r>
              <a:rPr b="0" lang="en-US" sz="2800" spc="-1" strike="noStrike">
                <a:solidFill>
                  <a:srgbClr val="000000"/>
                </a:solidFill>
                <a:latin typeface="MS Reference Sans Serif"/>
              </a:rPr>
              <a:t>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азива га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домои</a:t>
            </a:r>
            <a:r>
              <a:rPr b="0" lang="sr-CS" sz="2800" spc="-1" strike="noStrike">
                <a:solidFill>
                  <a:srgbClr val="c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на кисели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аналог глутамата и каината, и агониста глутаматских рецеп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омо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у киселину ствара динофлагелата Nitzschia pungens, којом се хране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љ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мптоми се јављају до 38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са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од ингестије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и (нај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после 5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со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Тровање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праћено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амнезиј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мптоми и знац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р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ње, гр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ви, прол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мне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ма, конвулз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емипареза, офталмоплегија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акање бе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злога, гримасир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% отрованих има дуготрајн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нтероградну амнезију и неуропат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Тровање храном које изазива гастроентеритис, анемију, тромбоцитопенију и азотем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686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7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азива га Escherichia coli, сој O157:H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7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ред гастроентеритиса изазива микроангиопатију са хемолизом и тромбоцитопениј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7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ступа акутна бубр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 инсуфицијен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7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ње - хемодијали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Механизам трова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520" y="23320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ретварају хемоглобин у метхемоглоб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Хемолиза у тежим случаје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Главни знаци тровања: цијаноза и жут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Тровања храном која је контаминирана бактеријским токсин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оксин S. aureus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оксин B. cereus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оксин Cl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frin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оксин E. c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рактерист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о је да ова тровања имају кратку инкубацију (6-12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са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да не изазивају пораст температуре и да кратко трају (дан-д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Јављају се знаци и симптоми гастроентерити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рактерист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о се јав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ју када се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нос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храна која се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ва на високој температу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Тровање храном која садр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и инвазивне микроб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lmonella sp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igella sp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mpylobacter sp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нвазивна E. col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brio parahaemolythic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ersinia eneterocolit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tavir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Карактеристи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и су знаци гастроентеритиса пра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ени пови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еном температуром и крвљу у столиц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нкубација је 1-7 д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Ле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 се рехидратацијом и применом флуорохиноло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steria monocytogenes тако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е мо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е изазвати гастроентеритис, али код трудница и имунокомпромитованих особа; листериоза се ле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 ампицилином и бактрим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индром кинеског рестора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астаје због ингестије ве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е коли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не Na-глутам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Јављају се осе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ај горења, притиска у лицу, главобољ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Црвенило лиц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Бол у груд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Му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ина, повра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ањ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Ретко бронхоспазам и ангиоеде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Осе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ај горења се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ри на ле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а, врат, раме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Траје 1 с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крилам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2141280"/>
            <a:ext cx="78868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криламид се користи у индустрији, али и настаје у храни која се термички обрађује на високим температурама (нпр. кекс, крекери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елује само неуротоксично код човека, док код животиња делује неуротоксично, канцерогено и смањује фертилнос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Омета функционисање протеина сличних кинезину у нервним ћелијама (ови протеини су неопходни за формирање деобног вретена у митози), као и протеина задужених за фузију везикула у нервним завршеци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убхронична изложеност овој хемикалији доводи до неуропатије, губитка осећаја додира на шакама и стопалима, абнормалног хода, мишићне слабости, атаксије, поремећаја на малом мозгу и у неким случајевима кожних проме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218760" y="5254560"/>
            <a:ext cx="62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on JH. A review of the toxicology of acrylamide. Journal of Toxicology and Environment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, Part B. 2006;9(5):397-412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nnisi M, Malaguarnera G, Puglisi V, Vinciguerra L, Vacante M, Malaguarnera M. Neurotoxicity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rylamide in exposed workers. International journal of environmental research and public health. 2013;10(9):3843-5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7078680" y="1143000"/>
            <a:ext cx="13651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флаток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флатоксини су секундарни метаболити супстанци из групе поликетида које стварају гљивиц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pergillus flavus, A. parasiticus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. Nomius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. Ове гљивице се развијају на намирницама, и то посебно на пшеници, кукурузу, кикирикију, орасима, лешницима и бадеми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Човек уноси афлатоксине уношењем наведених намирница, али и преко млека, јаја и меса животиња које су храњене зараженом пшеницом или кукуруз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јзначајнији афлатоксини с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1, B2, G1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 могу се уништити обичним кувањем!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флатоксин Б1 – структурна форму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781360" y="2409840"/>
            <a:ext cx="2959200" cy="219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037600" y="5338800"/>
            <a:ext cx="60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umar P, Mahato DK, Kamle M, Mohanta TK, Kang SG. Aflatoxins: a global concern for food safety, human healt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their management. Frontiers in microbiology. 2017;7:2170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следице уношења афлатокс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28560" y="2227320"/>
            <a:ext cx="788688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уџарату и Раџастану, две Индијске државе, током 1974. године је дошло до масовног тровања афлатоксин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болело је 397 одоба, и умрло 106. Такође је неутврђен број паса оболео и угину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ви оболели су око месец дана уносили између 2 и 6 милиграма афлатоксина преко хране справљене од кукуруза зараженог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pergillus flavus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–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шло је до енормне пролиферације жучних каналића у јетри који су довели с једне стране до опструктивне жутице, а с друге до портне хипертензије и асците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433320" y="5484960"/>
            <a:ext cx="55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rishnamachari K. A. V. R., Bhat R. V., Nagarajan V., Tilak T. B. G. (1975). Hepatitis due to aflatoxicosis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 outbreak in western India. Lancet 1 1061–1063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ронично тровање афлатоксини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лују карциногено због липидне пероксидације и оксидативног оштећења ДНК – изазивају карцином јет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лују имуносупресивно до те мере, да је забележена смањена ефикасност вакцина кдо деце изложене већим количинама афлатокс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нцерогено дејство је примећено и на бубрез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Утицај температуре околи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љивице се на намирницама размножавају и луче највише афлатоксина ако је температура околине око 28</a:t>
            </a:r>
            <a:r>
              <a:rPr b="0" lang="sr-RS" sz="3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 температурама око 20</a:t>
            </a:r>
            <a:r>
              <a:rPr b="0" lang="sr-RS" sz="3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 и ниже или 37</a:t>
            </a:r>
            <a:r>
              <a:rPr b="0" lang="sr-RS" sz="3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 и више, стварање токсина је минимал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ако отклонити афлатоксин из намирниц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актериј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vobacterium aurantiacum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тклања афлатоксин М1 итз мле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hodococcus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рсте могу да разграде афлатоксин Б1, који је иначе најотровнији у целој груп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Акутно тровањ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905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ијаноза ако је метхемоглобин преко 1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ршно дисање и вртоглавица ако је метхемоглобин 40-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нфузија, хипотензија, ступор – ако је метхемоглобин око 6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нвулзије и кома ако је метхемоглобин 7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ако спречити развој Аспергилуса на намирницам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acillus subtil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actobacill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spp., 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seudomon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spp., 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alston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spp.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urkholder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p.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пречавају развој токсигених сојева Аспергил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токсиг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. Flavus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се такође користи за заштиту намирница, јер елиминише токсигене соје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теф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8560" y="202356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Користи се за убрзавање сазревања воћа и поврћ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Апсорбује се оралним путем и инхалацијом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Метаболише се у јетри до етилена и до хидрокси метаболита; етилен се највећма излучује издисањем, а неизмењен етефон и хидрокси метаболит се могу наћи у урин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Делује локално корозивн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500" spc="-1" strike="noStrike">
                <a:solidFill>
                  <a:srgbClr val="ff0000"/>
                </a:solidFill>
                <a:latin typeface="Calibri"/>
              </a:rPr>
              <a:t>Блокира ацетилхолин-естеразу у плазми, еритроцитима и ткивим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Није уочена специфична токсичност у студијама акутне и хроничне токсичности на жиотињама, осим снижења активности ацетилхолин-естераз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Мутаген у само једном од више тестов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Репродуктивна токсичност – само је забележена мања тежина на рођењу и у постнаталном развоју у експериментима на животињам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Није канцероген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Код људи изазива само учестало мокрење и понекад више столиц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Није забележена одложена неуротоксичност у експериментима на животињам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528480" y="5489640"/>
            <a:ext cx="8194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00000"/>
                </a:solidFill>
                <a:latin typeface="Arial"/>
              </a:rPr>
              <a:t>Otrovom „požuruju” paradajz da zri [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Интернет]. [цитирано 14. Јануар 2018.]. </a:t>
            </a:r>
            <a:r>
              <a:rPr b="0" lang="sr-Latn-RS" sz="1000" spc="-1" strike="noStrike">
                <a:solidFill>
                  <a:srgbClr val="000000"/>
                </a:solidFill>
                <a:latin typeface="Arial"/>
              </a:rPr>
              <a:t>Available at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sr-Latn-RS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sr-Latn-RS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novosti.rs/vesti/naslovna/ekonomija/aktuelno.239.html:677942-Otrovom-pozuruju-paradajz-da-z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. Wolterink,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 Inoue and J. Zarn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RS" sz="1000" spc="-1" strike="noStrike">
                <a:solidFill>
                  <a:srgbClr val="000000"/>
                </a:solidFill>
                <a:latin typeface="Arial"/>
              </a:rPr>
              <a:t>ETHEPHON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FAO/WHO Meeting on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sticide Residues (JMPR)</a:t>
            </a:r>
            <a:r>
              <a:rPr b="0" lang="sr-RS" sz="1000" spc="-1" strike="noStrike">
                <a:solidFill>
                  <a:srgbClr val="000000"/>
                </a:solidFill>
                <a:latin typeface="Arial"/>
              </a:rPr>
              <a:t>, Светска здравствена организација, 2016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7415280" y="981000"/>
            <a:ext cx="13078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Хронично тровањ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Губитак телесне теж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лабост и раздражљив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Ан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Оштећење јетре и бубре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Хематурија због иритације мокраћне беши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Дијагно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У мокраћи се може доказати н-ацетил-п-аминофен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Лечењ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ште мере отклањања отр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тидот: метил-плаво, 1% раствор, 0.1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l/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модијализа или ексангвинотрансфуз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Органофосф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ви органофосфат је синтетисан 1854. год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од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ње се у свету органофосфатима отрује око 3.000.000 осо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ипофилни су, и одл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о се апсорбују са ко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 и свих слузоко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ада се брзо метабол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њеница да се депонују у масном ткиву, а потом редистрибуирају, доприноси њиховом дугом задр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вању у организму (и до 48 да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етабол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их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оксидазе у јет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c0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ке од ових супстанци су про-лекови, који постају активни после биотрансформ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Карбама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обро се апсорбују кроз к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и слузок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табол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се у јетри (хидролизом, хидроксилацијом и коњугацијо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0% се излу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 урину за 3 д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а разлику од органофосфата, карбамати слабо продиру у ЦН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а разлику од органофосфата, веза карбамата и ацетилхолин-естеразе не ста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21:49:24Z</dcterms:created>
  <dc:creator>xp</dc:creator>
  <dc:description/>
  <dc:language>en-US</dc:language>
  <cp:lastModifiedBy>Windows korisnik</cp:lastModifiedBy>
  <dcterms:modified xsi:type="dcterms:W3CDTF">2018-01-15T20:22:44Z</dcterms:modified>
  <cp:revision>19</cp:revision>
  <dc:subject/>
  <dc:title>Slide 1</dc:title>
</cp:coreProperties>
</file>